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s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 reception, or sense perception is the mechanism or faculty by which an organism is able to react to changes in its external or internal environment, in particular through the activation of specific parts which transform the energy change involved into vital processes. In all higher animals this involves transduction – conversion of internal or external stimuli into nerve impulses that travel to specialized areas of the brain, where they are analyzed. The higher organism is thus enabled to react appropriately. Ancient philosophers called the human senses “the windows of the soul”, and Aristotle enumerated at least five senses – sight, hearing, smell, taste, and touch and his influence has been so enduring that many people still speak of the five senses as if there were no other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a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tib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tibu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ane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lym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te bu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il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merul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ant by “sense perce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enses did ancient philosophers enum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modern sensory catalogue 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all receptors give rise to direct sensory awar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most efficient means of classifying sensor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ategories of sensory nerves are present in hum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transduction processes for all human senses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cutaneous senses 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vestibula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rotation regul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gustatory sen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olfactory sense consist o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hat best fit the following description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tural ability to do th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changing something (from one form, use into anoth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of the five powers of the body by which a person is conscious of thing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ickly or easily receiving impress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to feel or feeling produced by the sen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int where a stimulus just begins to produce a sens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ft, thin layer of tissue or cov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or relating to the sense of tas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appropriate form of the words in bracket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receptors give rise to direct (sense) awarenes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is very important in the (prevent) of a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progress is being made in the (chemotherapy) treatment of (virus) disea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vaccines are usually considered (risk) to people who have a damaged immun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have diabetes but they are (aware) of i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agnose) on time, some diseases can lead to serious complications affecting various part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 appropriate prepositions for the following word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correct tense:</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long she (give up) smoking? She (do) that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ke) plans how to carry out his important experime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ays ago, their friend (sprain) his ankle and he (must ) go to hospita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you (drive) when the accident (happe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study) the case for the last 20 minutes, but he (not draw) any conclusion ye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essor said that he (wait) for that opportunity for a long tim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time tomorrow, my associates (work) on a new projec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oped no one (know) what (happen) to hi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inish) our research by the end of Ma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friend (check) his blood pressure almost every d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 телу човека постоје различити рецептори који одговарају на стимулансе њихових нервних завршетака. Сва чула имају свој центар у мозгу. Тамо се послата информација интерпретира. Пет главних чула су: чуло вида, слуха, мириса, укуса и додира. Чуло за осећај или додир може се даље поделити према природи осећаја (за хладно, топло, за притисак итд.). Чулно опажање представља начин помоћу којег један организам има способност да реагује на промене у својој спољашњој или унутрашњој околини, посебно кроз деловање одређених делова који претварају енергију потребну за обављање виталних процеса. У многим случајевима, промене у околини се преносе од органа рецептора до других делова тела посредством специјализованих ћелија док код једноћелијских организама ову функцију обављају посебне органеле као што су цилије које су осетљиве на механичке поремећај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6T17:57:37Z</dcterms:modified>
  <cp:revision>15</cp:revision>
  <dc:subject/>
  <dc:title>Slide 1</dc:title>
</cp:coreProperties>
</file>